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1FA7-DBFC-423D-BCA4-D365BEBEC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2E65-229E-4CEC-B920-6E32F2102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026C-FDA0-4EFB-9DDF-0B2EF21EC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C480-4A6D-4305-A0A3-0338D64B4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945C-B5BB-47C9-84E4-B0EADB3E7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C742-55A1-4F2C-858C-65E8C4DF7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762A-F835-4268-A842-7B73DA276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BD58-3AA0-402A-957E-529543559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4E44-CC8E-48F1-8EBC-419EDC591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506E-D13A-4894-B9ED-FD0A7385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6D63-ADEB-4E95-9852-58571CA3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FFDA-03B0-4960-9FB3-AD756B8E7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A62EB-2924-4CA2-902D-C9EC898F42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120" y="0"/>
            <a:ext cx="586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Rockwell Extra Bold"/>
              </a:rPr>
              <a:t>RESPI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3124080"/>
          </a:xfrm>
          <a:prstGeom prst="flowChartProcess">
            <a:avLst/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705720" y="1522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ckwell Extra Bold"/>
              </a:rPr>
              <a:t>CYTOPLASM</a:t>
            </a:r>
            <a:r>
              <a:rPr b="1" lang="en-US" sz="1200" spc="-1" strike="noStrike">
                <a:solidFill>
                  <a:srgbClr val="000000"/>
                </a:solidFill>
                <a:latin typeface="Rockwell Extra Bold"/>
              </a:rPr>
              <a:t>GLYCOLOSIS HAPPENS HER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124080"/>
            <a:ext cx="9144000" cy="3733920"/>
          </a:xfrm>
          <a:prstGeom prst="flowChartAlternateProcess">
            <a:avLst/>
          </a:prstGeom>
          <a:gradFill rotWithShape="0">
            <a:gsLst>
              <a:gs pos="0">
                <a:srgbClr val="fecbdc"/>
              </a:gs>
              <a:gs pos="50000">
                <a:srgbClr val="ff6699"/>
              </a:gs>
              <a:gs pos="100000">
                <a:srgbClr val="fecbd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6004080"/>
            <a:ext cx="266688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ckwell Extra Bold"/>
              </a:rPr>
              <a:t>MITOCHONDRIA</a:t>
            </a:r>
            <a:r>
              <a:rPr b="1" lang="en-US" sz="1200" spc="-1" strike="noStrike">
                <a:solidFill>
                  <a:srgbClr val="000000"/>
                </a:solidFill>
                <a:latin typeface="Rockwell Extra Bold"/>
              </a:rPr>
              <a:t>RESPIRATION HAPPENS IN THIS ORGANELL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19320" y="762120"/>
            <a:ext cx="914400" cy="609480"/>
          </a:xfrm>
          <a:prstGeom prst="flowChartProcess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Rockwell Extra Bold"/>
              </a:rPr>
              <a:t>PROTEI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762120"/>
            <a:ext cx="914400" cy="609480"/>
          </a:xfrm>
          <a:prstGeom prst="flowChartProcess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Rockwell Extra Bold"/>
              </a:rPr>
              <a:t>CARBO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Rockwell Extra Bold"/>
              </a:rPr>
              <a:t>(SUGAR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19320" y="1905120"/>
            <a:ext cx="914400" cy="609480"/>
          </a:xfrm>
          <a:prstGeom prst="flowChartProcess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Rockwell Extra Bold"/>
              </a:rPr>
              <a:t>AMI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Rockwell Extra Bold"/>
              </a:rPr>
              <a:t>ACI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162920" y="1295280"/>
            <a:ext cx="914400" cy="609840"/>
          </a:xfrm>
          <a:prstGeom prst="flowChartProcess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Rockwell Extra Bold"/>
              </a:rPr>
              <a:t>FA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Rockwell Extra Bold"/>
              </a:rPr>
              <a:t>(LIPID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62520" y="1600200"/>
            <a:ext cx="914400" cy="609480"/>
          </a:xfrm>
          <a:prstGeom prst="flowChartProcess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Rockwell Extra Bold"/>
              </a:rPr>
              <a:t>GLUCO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Rockwell Extra Bold"/>
              </a:rPr>
              <a:t>C</a:t>
            </a:r>
            <a:r>
              <a:rPr b="1" lang="en-US" sz="1000" spc="-1" strike="noStrike" baseline="-25000">
                <a:solidFill>
                  <a:srgbClr val="ffffff"/>
                </a:solidFill>
                <a:latin typeface="Rockwell Extra Bold"/>
              </a:rPr>
              <a:t>6</a:t>
            </a:r>
            <a:r>
              <a:rPr b="1" lang="en-US" sz="1000" spc="-1" strike="noStrike">
                <a:solidFill>
                  <a:srgbClr val="ffffff"/>
                </a:solidFill>
                <a:latin typeface="Rockwell Extra Bold"/>
              </a:rPr>
              <a:t>H</a:t>
            </a:r>
            <a:r>
              <a:rPr b="1" lang="en-US" sz="1000" spc="-1" strike="noStrike" baseline="-25000">
                <a:solidFill>
                  <a:srgbClr val="ffffff"/>
                </a:solidFill>
                <a:latin typeface="Rockwell Extra Bold"/>
              </a:rPr>
              <a:t>12</a:t>
            </a:r>
            <a:r>
              <a:rPr b="1" lang="en-US" sz="1000" spc="-1" strike="noStrike">
                <a:solidFill>
                  <a:srgbClr val="ffffff"/>
                </a:solidFill>
                <a:latin typeface="Rockwell Extra Bold"/>
              </a:rPr>
              <a:t>O</a:t>
            </a:r>
            <a:r>
              <a:rPr b="1" lang="en-US" sz="1000" spc="-1" strike="noStrike" baseline="-25000">
                <a:solidFill>
                  <a:srgbClr val="ffffff"/>
                </a:solidFill>
                <a:latin typeface="Rockwell Extra Bold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86200" y="4343400"/>
            <a:ext cx="1066680" cy="609480"/>
          </a:xfrm>
          <a:prstGeom prst="flowChartProcess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Rockwell Extra Bold"/>
              </a:rPr>
              <a:t>ACETYL-Co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3429000"/>
            <a:ext cx="914400" cy="609480"/>
          </a:xfrm>
          <a:prstGeom prst="flowChartProcess">
            <a:avLst/>
          </a:pr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Rockwell Extra Bold"/>
              </a:rPr>
              <a:t>PYRUVI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Rockwell Extra Bold"/>
              </a:rPr>
              <a:t>AC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33920" y="2362320"/>
            <a:ext cx="1371600" cy="609480"/>
          </a:xfrm>
          <a:prstGeom prst="flowChartProcess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Rockwell Extra Bold"/>
              </a:rPr>
              <a:t>GLYCOLOS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Rockwell Extra Bold"/>
              </a:rPr>
              <a:t>IN CYTOPLASM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Rockwell Extra Bold"/>
              </a:rPr>
              <a:t>NO OXYGEN!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5181480"/>
            <a:ext cx="1295280" cy="121932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Rockwell Extra Bold"/>
              </a:rPr>
              <a:t>KREBS CYC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Rockwell Extra Bold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Rockwell Extra Bold"/>
              </a:rPr>
              <a:t>AN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Rockwell Extra Bold"/>
              </a:rPr>
              <a:t>ELECTR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Rockwell Extra Bold"/>
              </a:rPr>
              <a:t>TANS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19920" y="5334120"/>
            <a:ext cx="1218960" cy="9144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Rockwell Extra Bold"/>
              </a:rPr>
              <a:t>MAK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Rockwell Extra Bold"/>
              </a:rPr>
              <a:t>34 AT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86400" y="2286000"/>
            <a:ext cx="106668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Rockwell Extra Bold"/>
              </a:rPr>
              <a:t>MAK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Rockwell Extra Bold"/>
              </a:rPr>
              <a:t>2 AT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13716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9720" y="1371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22096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05520" y="26668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19720" y="29718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19720" y="40384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19720" y="49528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029200" y="579132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2514600"/>
            <a:ext cx="220968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76520" y="2514600"/>
            <a:ext cx="2133360" cy="297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105160" y="1752480"/>
            <a:ext cx="205740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952520" y="1905120"/>
            <a:ext cx="2590920" cy="2819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4800600"/>
            <a:ext cx="18288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Rockwell Extra Bold"/>
              </a:rPr>
              <a:t>O</a:t>
            </a:r>
            <a:r>
              <a:rPr b="1" lang="en-US" sz="2000" spc="-1" strike="noStrike" baseline="-25000">
                <a:solidFill>
                  <a:srgbClr val="000099"/>
                </a:solidFill>
                <a:latin typeface="Rockwell Extra Bold"/>
              </a:rPr>
              <a:t>2 </a:t>
            </a:r>
            <a:r>
              <a:rPr b="1" lang="en-US" sz="2000" spc="-1" strike="noStrike">
                <a:solidFill>
                  <a:srgbClr val="000099"/>
                </a:solidFill>
                <a:latin typeface="Rockwell Extra Bold"/>
              </a:rPr>
              <a:t>ENTERS 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00800" y="4114800"/>
            <a:ext cx="17524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ckwell Extra Bold"/>
              </a:rPr>
              <a:t>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Rockwell Extra Bold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Rockwell Extra Bold"/>
              </a:rPr>
              <a:t> IS RELE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62320" y="5257800"/>
            <a:ext cx="137160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952880" y="4723920"/>
            <a:ext cx="152424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429000"/>
            <a:ext cx="213372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Rockwell Extra Bold"/>
              </a:rPr>
              <a:t>ATP TOT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Rockwell Extra Bold"/>
              </a:rPr>
              <a:t>GLYCOLOSIS=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Rockwell Extra Bold"/>
              </a:rPr>
              <a:t>RESPIRATION=3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Rockwell Extra Bold"/>
              </a:rPr>
              <a:t>BOTH=36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620120" y="19810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209680" y="762120"/>
            <a:ext cx="1032120" cy="12189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4952880" y="76212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3T22:58:50Z</dcterms:created>
  <dc:creator>Valued Gateway Client</dc:creator>
  <dc:description/>
  <dc:language>en-US</dc:language>
  <cp:lastModifiedBy>Jefferson County Schools</cp:lastModifiedBy>
  <dcterms:modified xsi:type="dcterms:W3CDTF">2002-03-04T14:08:44Z</dcterms:modified>
  <cp:revision>3</cp:revision>
  <dc:subject/>
  <dc:title>RESPIRATION</dc:title>
</cp:coreProperties>
</file>